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F9D-085A-4497-824A-E35B1390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785-CDB3-4DD3-9CE6-E330B34F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51F-4291-443D-8BE9-E13E286E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844-B050-4985-8BB6-095AB602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1187-4BB5-428B-8663-0A9485F0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54DE-CAF2-4D0F-83EA-ABC9160E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E14D-AA3F-431D-9F21-D9D69FBC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5A0D-F2D2-4E9F-AE18-42B9EC04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D4EE-B02A-4035-9FC8-B9FDF6A4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E7FF-424B-43B7-B71A-7FFAC2A0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ADD0-AEDF-4BE1-BB9C-33868184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58E-4929-49BF-B58C-1F5B27CB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4820-BB92-497A-8736-F60E7BD7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64A9-29F0-463E-AB46-8D41CC2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19A2-840E-4110-8162-3E3B4302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2C01-86C6-4163-B381-A98A994F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375D-029B-42ED-8E0C-B4A693C3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F2D-9868-492F-ADC3-490388C6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6D11-7EDB-440E-8176-BD25F430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669-F002-4BD6-B7A0-887B0F68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218-7661-4363-B33F-737FD892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639-C5C0-4A92-A703-B2D268BE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293-5101-41C7-A890-F2DD41D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B8D-2478-41A6-9CB4-A2547EC0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ADE5-A725-479D-9992-FF6BC00C71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4126-A9DC-41E7-B5BB-459049A9B8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56908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นวทางการวางแผนภาษีธุรกิจเฉพาะ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pecific Business Tax Plann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393372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ุเทพ  พงษ์พิทักษ์</a:t>
            </a:r>
            <a:r>
              <a:rPr b="1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br>
              <a:rPr sz="2800"/>
            </a:b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ผู้อำนวย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สำนักมาตรฐานการสอบบัญชี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ตลอดจนเอกสาร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99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ูปแบบการจัดองค์การ อาทิ โครงสร้างเงินทุนของกิจการ และวิธีการจัดการทางการเงิน เช่น แหล่งเงินทุน จำนวนเงินทุน รูปแบบหรือลักษณะของการเป็นเจ้าของกิจการ วัตถุประสงค์ของกิจการ ปรัชญา วิสัยทัศน์ และภารกิจ แผนเชิงกลยุทธ์ การบริหารเชิงกลยุทธ์ การจัดแบ่งองค์การ และสายการบังคับบัญชา การบริหารทรัพยากรมนุษย์ในองค์การ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HRM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ผู้บริห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W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ิเคราะห์ ปัจจัยด้านเศรษฐกิจ และอุตสาหกรรมที่เกี่ยวข้องกับกิจการ สภาวการณ์ที่สำคัญ ซึ่งมีผลกระทบต่อ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373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2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ตลอดจนเอกสารทางธุรกิจ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ขั้นตอนการดำเนินธุรกิจเกี่ยวกับประเด็นทางภาษีอากรและการปรับระบบเอกสารทางธุรกิจให้สอดคล้องกับ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ะบบเอกสารทางธุรกิจและระบบบัญชีของกิจการ อาทิ ผังบัญชี ระบบบัญชี และการวางรูประบบบัญชี รูปแบบของเอกสารประกอบการลงบัญชี วิธีการบันทึกบัญชี และการจัดทำเอกสารหลักฐานทางธุรกิจและทางภาษีอากร งบการเงิน เอกสารสัญญาทางธุรกิ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ะบบการควบคุมภายในและการตรวจสอบภายใ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และวิเคราะห์ผลการประกอบกิจ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นโยบายขององค์กรต่อสังคมและสิ่งแวดล้อม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1670040"/>
            <a:ext cx="805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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ครงสร้าง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ของภาษีธุรกิจเฉพา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คำนวณภาษีธุรกิจเฉพา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เสีย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อื่นในทาง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8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จัดข้อโต้แย้งทางภาษีธุรกิจเฉพาะ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กำหนดโทษทาง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3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ศึกษาหลักเกณฑ์ วิธีการ และเงื่อนไขเกี่ยวกับ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ธุรกิจเฉพาะของธุรกิจที่ต้องการจัดให้มีการวางแผ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ปฏิบัติการต่างๆ ทางภาษีธุรกิจเฉพาะในงานปกติประจำวั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CIT Routine Fault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ิดพลาดไม่ถูกต้อง ครบถ้วน ตามหลักเกณฑ์ วิธีการ และเงื่อนไขของ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บันทึกรับรู้รายรั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เอกสารประกอบการลงราย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ใช้แบบแสดงราย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ไม่ถูกต้องเกี่ยวกับการให้ความร่วมมือแก่เจ้าพนัก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ปฏิบัติการในแต่ละขั้นตอนของการดำเนินธุรกิจ ตลอดจนการจัดทำสัญญาไม่สอดคล้องกับหลักเกณฑ์ วิธีการ และเงื่อนไขของกฎหมา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ธุรกิจเฉพาะของธุรกิจที่ต้องการจัดให้มีการวางแผ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หลักเกณฑ์ วิธีการ และเงื่อนไขทางธุรกิจและบัญชีการเงิน กับหลักเกณฑ์ วิธีการ และเงื่อนไขทาง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เงื่อนไขเกี่ยวกับรายได้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เงื่อนไขเกี่ยวกับรายจ่า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ความแตกต่างของหลักเกณฑ์ในการตีราคาทรัพย์สิน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ี้สิ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ปลี่ยนแปล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วามหลายหลาย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Diversification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าท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เปลี่ยนเป็นบริษัทมหาชน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เป็นบริษัทจดทะเบียนในตลาด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ผู้ร่วมลงทุนรายใหม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การความเป็นมาตรฐานสาก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4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ปัญหาภาษีธุรกิจเฉพาะของธุรกิจที่ต้องการจัดให้มีการวางแผน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การใช้สิทธิประโยชน์ทางภาษีธุรกิจเฉพาะขององค์กรยังเป็นไปอย่างไม่เต็มที่หรือสมบูรณ์ตามที่ควรจะเป็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ประโยชน์ด้านร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ประโยชน์ด้านรายจ่า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ิทธิประโยชน์ด้านทรัพย์สินและหนี้ส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2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วางแผน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ประเด็นภาษีธุรกิจเฉพาะที่เกี่ยวข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ป้าหมายของการแก้ปัญหา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แก้ปัญหา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Mapp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Man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ัดทำ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 Calendar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3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นำแผน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ไปปฏิบัติ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การทางด้านผู้บังคับบัญช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ฏิบัติการทางด้านผู้รับมอบหมายให้ปฏิบัติงานตามแผน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4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.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ประเมินผล</a:t>
            </a:r>
            <a:br>
              <a:rPr sz="4000"/>
            </a:b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แผนภาษีธุรกิจเฉพาะ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ผลการปฏิบัติโดยรว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อุปสรรค ปัญหาในการปฏิบัติตามแผน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เพิ่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3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ผลการปฏิบัติ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เมินความรู้ความสามารถของเจ้าหน้าที่ผู้ปฏิบัติตามแผน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6040" y="1701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ศึกษาหลักเกณฑ์ วิธีการ และ</a:t>
            </a:r>
            <a:br>
              <a:rPr sz="4400"/>
            </a:b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งื่อนไขเกี่ยวกับภาษีธุรกิจเฉพาะ</a:t>
            </a:r>
            <a:br>
              <a:rPr sz="4400"/>
            </a:b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พื่อการวางแผนภาษีอากร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ธุรกิจเฉพาะ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คือ การกำหนดแนวทางการปฏิบัติที่เป็นรูปธรรม เพื่อการปฏิบัติในอนาคตเกี่ยวกับรายการทางการเงิ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Financial Transactions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ี่เกี่ยวข้อง มุ่งหมายให้การเสียภาษีธุรกิจเฉพาะและการปฏิบัติการเกี่ยวกับภาษีธุรกิจเฉพาะขององค์กรเป็นไปโดยถูกต้อง และครบถ้วนตามหลักเกณฑ์ วิธีการ และเงื่อนไขที่กฎหมายภาษีธุรกิจเฉพาะกำหนด และเป็นผลให้จำนวนภาษีธุรกิจเฉพาะที่ต้องเสียเป็นจำนวนน้อยที่สุดหรือประหยัดที่สุด รวมทั้งใช้สิทธิประโยชน์ทางภาษีธุรกิจเฉพาะสูงสุด ทั้งนี้ โดยไม่อาศัยการทุจริตหลีกเลี่ยง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ธุรกิจเฉพา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81640" y="122400"/>
            <a:ext cx="3548880" cy="520560"/>
          </a:xfrm>
          <a:prstGeom prst="rect">
            <a:avLst/>
          </a:prstGeom>
          <a:solidFill>
            <a:srgbClr val="010175"/>
          </a:solidFill>
          <a:ln w="9360">
            <a:solidFill>
              <a:srgbClr val="0066ff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นวทางการศึกษา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040" y="811080"/>
            <a:ext cx="3457800" cy="947160"/>
          </a:xfrm>
          <a:prstGeom prst="rect">
            <a:avLst/>
          </a:prstGeom>
          <a:solidFill>
            <a:srgbClr val="010175"/>
          </a:solidFill>
          <a:ln w="9360">
            <a:solidFill>
              <a:srgbClr val="dddddd"/>
            </a:solidFill>
            <a:miter/>
          </a:ln>
          <a:effectLst>
            <a:outerShdw dist="17819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Law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5960" y="1501920"/>
            <a:ext cx="2849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1) SBT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9800" y="1863720"/>
            <a:ext cx="2518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2) SBT P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9200" y="2243160"/>
            <a:ext cx="3495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3)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BT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2680" y="2678040"/>
            <a:ext cx="28098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4) SB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2680" y="3141720"/>
            <a:ext cx="3087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5) SB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e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120" y="3573360"/>
            <a:ext cx="26053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6) SBT Ref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7080" y="4005360"/>
            <a:ext cx="40881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7) Other SBT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3280" y="4437000"/>
            <a:ext cx="32270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(8) SBT Sett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7320" y="4869000"/>
            <a:ext cx="33825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9) SBT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31040" y="5270400"/>
            <a:ext cx="30546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vil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03680" y="5661000"/>
            <a:ext cx="36871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e4e9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917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4e917"/>
                </a:solidFill>
                <a:latin typeface="Arial"/>
              </a:rPr>
              <a:t>Criminal Pun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60600" y="3429000"/>
            <a:ext cx="3696480" cy="1557000"/>
          </a:xfrm>
          <a:prstGeom prst="rect">
            <a:avLst/>
          </a:prstGeom>
          <a:noFill/>
          <a:ln w="9360">
            <a:solidFill>
              <a:srgbClr val="f4f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Tax Identification 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BT Reg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BT Documents &amp; B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03a"/>
                </a:solidFill>
                <a:latin typeface="Microsoft Sans Serif"/>
                <a:ea typeface="Microsoft Sans Serif"/>
              </a:rPr>
              <a:t>SBT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82400" y="795240"/>
            <a:ext cx="3553200" cy="1410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To understand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To apply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he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l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To up date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o create SBT benef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76840" y="1125360"/>
            <a:ext cx="11509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30760" y="419904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2924280"/>
            <a:ext cx="2305080" cy="504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83160" y="2170080"/>
            <a:ext cx="3198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Base &amp; SBT 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94480" y="5270400"/>
            <a:ext cx="36630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Penalty &amp; Sur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74680" y="5661000"/>
            <a:ext cx="289044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- Fine &amp; Imp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2492280"/>
            <a:ext cx="1655640" cy="936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หลักการ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างอ้อ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Indirect Tax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จากการขายสินค้าหรือการให้บริการชนิดพิเศษที่ไม่อาจคำนวณหามูลค่าเพิ่มได้โดยง่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แทนที่ภาษีการค้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Business Tax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ั้งแต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53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มา โดยจัดเก็บจากยอดรายรับก่อนหักรายจ่ายใด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เก็บเป็นรายเดือ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อากรประเมิน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างเลือก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lternative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Tax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ภาษีธุรกิจเฉพาะ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ละ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หลักการ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เป็นภาษีที่เก็บจากการบริโภคหรือการบริการเฉพาะอย่า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บัญญัติไว้ในหมวด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่าด้วยภาษีธุรกิจเฉพาะ แห่งประมวลรัษฎากรการจัดเก็บภาษีธุรกิจเฉพาะประมวลรัษฎากรบัญญัติไว้ตั้งแต่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 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่วนภาษีท้องถิ่นยังคงกำหนดให้จัดเก็บในอัตรา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อัตรา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การเสียภาษี ต้องชำระภาษีธุรกิจเฉพาะตามอัตราภาษีเป็นร้อยละของยอดรายรับก่อนหักรายจ่ายเป็นรายเดือน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ยใ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ดือนถัดไป หากผู้มีหน้าที่เสียภาษีธุรกิจเฉพาะไม่ยื่นรายการ หรือยื่นไม่ครบจะต้องรับผิดเสียเงินเพิ่ม ถ้ามีภาษีต้องเสีย และเบี้ยปรับตามกฎหมา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45240" y="4076640"/>
            <a:ext cx="914400" cy="60984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907920"/>
            <a:ext cx="0" cy="511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94680" y="189000"/>
            <a:ext cx="17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 Jan 199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 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ค</a:t>
            </a:r>
            <a:r>
              <a:rPr b="0" lang="th-TH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25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48428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148428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3573360"/>
            <a:ext cx="3024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357336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7640" y="99864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xcise Tax: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499000"/>
            <a:ext cx="3313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08360" y="5499000"/>
            <a:ext cx="50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360" y="501336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Business Tax: 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1560" y="5013360"/>
            <a:ext cx="25657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pecific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: S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08360" y="3573360"/>
            <a:ext cx="647640" cy="194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356000" y="1483920"/>
            <a:ext cx="64764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1484280"/>
            <a:ext cx="64764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14000" y="1862280"/>
            <a:ext cx="2078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Luxury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&amp;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7600" y="3903840"/>
            <a:ext cx="2145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Normal G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&amp;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7960" y="3184560"/>
            <a:ext cx="200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lue Ad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Tax: V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62520" y="10270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Excise Tax: 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2704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6840" y="3068640"/>
            <a:ext cx="1415160" cy="1154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D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VAT 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SBT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16120" y="299736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Ap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6400" y="333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95960" y="357336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6 Nov 19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58972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558972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4005360"/>
            <a:ext cx="914400" cy="609480"/>
          </a:xfrm>
          <a:prstGeom prst="flowChartDocument">
            <a:avLst/>
          </a:prstGeom>
          <a:solidFill>
            <a:srgbClr val="0101d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ภ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5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ธุรกิจเฉพา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เป็นภาษีอากรประเม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ิยามศัพท์คำว่า “รายรับ” “มูลค่า” “ราคาตลาด” “ขาย” และให้นำให้นำบทนิยามคำว่า “บุคคล” “บุคคลธรรมดา” “คณะบุคคลที่มิใช่นิติบุคคล” “นิติบุคคล” “ตัวแทน” “สถานประกอบ การ” และ “เดือนภาษี” ตาม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7/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ใช้บังคับ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การจัดเก็บ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ด้รับยกเว้นภาษีธุรกิจเฉพา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เฉพาะอย่างของกิจการตามที่กำหนดไว้ใน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ให้เสียภาษีมูลค่าเพิ่ม</a:t>
            </a: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เสีย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8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50600" indent="-1650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9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ธุรกิจเฉพาะกรณีการขาย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11592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บทบัญญัติหมวด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Microsoft Sans Serif"/>
              </a:rPr>
              <a:t>5 </a:t>
            </a: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ภาษีธุรกิจเฉพา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052640"/>
            <a:ext cx="871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0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ธุรกิจเฉพาะโดยการยื่นรายการประเมินตนเอ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อคื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จดทะเบีย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3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ที่ไม่ต้องจดทะเบียนภาษีธุรกิจเฉพา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4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งา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5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ประเมินภาษีธุรกิจเฉพาะ เบี้ยปรับและเงินเพิ่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6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นาจเจ้าพนักงานประเมินในการประเมิ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7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จำนว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8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ลงโทษกรณีไม่จดทะเบียน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9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ลงโทษกรณีไม่จัดทำรายงา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0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ทลงโทษกรณีจัดทำรายงานไม่เป็นไปตามหลักเกณฑ์ วิธีการและเงือนไขทีกฎหมายกำหน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790640" indent="-1790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1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นำบทบัญญัติภาษีมูลค่าเพิ่มมาใช้บังคับโดยอนุโล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ิจการที่อยู่ในข่ายที่ต้องเสีย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B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ารธนาคารพาณิชย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ารบริษัทเงินทุน หลักทรัพย์ และเครดิตฟองซิเอร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.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การประกอบกิจการเยี่ยงธนาคารพาณิชย์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เข่น การให้กู้ยืม การ    แลกเปลี่ยนเงินตรา ค้ำประกัน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คำสั่งกรมสรรพากรที ป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26/253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ารประกันชีวิต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กิจการโรงรับจำน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.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การขายอสังหาริมทรัพย์เป็นทางค้าหรือหากำไร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พรฎ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 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342)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.2541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7. </a:t>
            </a:r>
            <a:r>
              <a:rPr b="0" lang="th-TH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กิจการแฟ็กเตอริ่ง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Factoring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ธนาคาร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กฎหมายว่าด้วยการธนาคารพาณิชย์ หรือกฎหมาย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ธุรกิจเงินทุน ธุรกิจหลักทรัพย์ ธุรกิจเครดิตฟองซิเอร์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ตามกฎหมายว่าด้วย การประกอบธุรกิจเงินทุน ธุรกิจหลักทรัพย์ และธุรกิจเครดิตฟองซิเอร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ประกันชีวิต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ามกฎหมายว่าด้วยการประกันชีวิต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จำนำ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ตามกฎหมายว่าด้วยโรงรับจำน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ประกอบกิจการโดยปกติเยี่ยงธนาคารพาณิชย์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เช่น การให้กู้ยืมเงินค้ำประกัน แลกเปลี่ยนเงินตรา ออก ซื้อ หรือขายตั๋วเงิน หรือรับส่งเงินไปต่างประเทศด้วยวิธีต่าง 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เป็นทางค้าหรือหากำไร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4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1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ซื้อและขายคืนหลักทรัพย์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350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ู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อบ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แฟ็คตอริ่ง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58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ิจการที่อยู่ในบังคับต้องเสียภาษีธุรกิจเฉพาะ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ิจการซื้อและขายคืนหลักทรัพย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ซื้อและขายคืนหลักทรัพย์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ไปตามหลักเกณฑ์และเงื่อนไขที่สำนักงานคณะกรรมการกำกับหลักทรัพย์และตลาดหลักทรัพย์อนุญาตให้บริษัทหลักทรัพย์ประกอบกิจการซื้อหรือขายหลักทรัพย์โดยมีสัญญาขายหรือซื้อคืนหรือที่ธนาคารแห่งประเทศไทยกำหนดให้สถาบันการเงินที่อยู่ภายใต้การกำกับดูแลประกอบกิจการซื้อหรือขายหลักทรัพย์โดยมีสัญญาขายหรือซื้อคืน แล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ไปตามหลักเกณฑ์ วิธีการ และเงื่อนไขประกาศอธิบดีกรมสรรพากร เกี่ยวกับภาษีธุรกิจเฉพา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ิจการซื้อหรือขายคืนหลักทรัพย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ซื้อขายหลักทรัพย์โดยมีสัญญาว่าจะมีการซื้อคืน” หมายถึ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มีการตกลงกันระหว่างผู้ขายหลักทรัพย์ และผู้ซื้อหลัก ทรัพย์ โดยผู้ขายหลักทรัพย์ตกลงที่จะขายหลักทรัพย์ให้แก่ผู้ซื้อหลักทรัพย์ โดยมีสัญญาว่าจะมีการซื้อคืนในอนาคตในขณะเดียว กันผู้ซื้อหลักทรัพย์ตกลงที่จะซื้อหลักทรัพย์จากผู้ขายหลักทรัพย์โดยมีสัญญาว่าจะขายคืนในอนาคต ตามกำหนดเวลาและในราคาที่ตกลงกันไว้ล่วงหน้า ทั้งนี้ ตามหลักเกณฑ์ วิธีการ และเงื่อนไขประกาศอธิบดีกรมสรรพากร เกี่ยวกับภาษีเงินได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ทรัพย์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หลักทรัพย์ตามกฎหมายว่าด้วยหลักทรัพย์และตลาดหลักทรัพ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ฎ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36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วางแผนภาษีธุรกิจเฉพา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ธุรกิจเฉพาะด้านรายได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ธุรกิจเฉพาะด้านรายจ่าย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ภาษีธุรกิจเฉพาะด้านทรัพย์สินและหนี้สิน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วางแผนเกี่ยวกับหน้าที่ทางภาษีธุรกิจเฉพา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ิจการซื้อและขายคืนหลักทรัพย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ชดเชยเงินปันผล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ที่ผู้ซื้อหลักทรัพย์จะต้องจ่ายให้แก่ ผู้ขายหลักทรัพย์ เนื่องจากมีการจ่ายเงินปันผลของหลักทรัพย์ที่ได้ซื้อจากผู้ขายหลักทรัพย์ และได้ถือครองไว้ก่อนที่จะขายคืนให้แก่ผู้ขายหลัก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ชดเชยดอกเบี้ย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”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ความว่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ที่ผู้ซื้อหลักทรัพย์จะต้องจ่ายให้แก่ ผู้ขายหลักทรัพย์ เนื่องจากมีการจ่ายดอกเบี้ยของหลักทรัพย์ที่ได้ซื้อจากผู้ขายหลักทรัพย์ และได้ถือครองไว้ก่อนที่จะขายคืนให้แก่ผู้ขายหลักทรัพย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ธุรกิจแฟ็กเตอริง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034640"/>
            <a:ext cx="896472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ุรกิจแฟ็กเตอริ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ายถึง ธุรกิจที่ผู้ขายสินค้าหรือผู้ให้บริการตกลงจะโอนทรัพย์สินที่จะได้รับจากการชำระหนี้เนื่องจากการขายสินค้าหรือการให้บริการระหว่างตน กับลูกหนี้ของตนให้แก่ผู้ประกอบธุรกิจแฟ็กเตอริง โดยผู้ประกอบธุรกิจแฟ็กเตอริงตกลงจะให้ สินเชื่อซึ่งรวมถึงการให้กู้ยืมและการทดรองจ่ายแก่ผู้ขายสินค้าหรือผู้ให้บริการและรับที่จะดำเนินการอย่างหนึ่งอย่างใด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ให้มีบัญชีทรัพย์สินที่จะได้รับจากการชำระ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ียกเก็บทรัพย์สินที่จะได้รับจากการชำระห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ผิดชอบในหนี้ที่ลูกหนี้ของผู้ขายสินค้าหรือผู้ให้บริการผิดนั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ผู้ประกอบธุรกิจแฟ็กเตอริง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035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ธุรกิจแฟ็กเตอริงตามนิยามศัพท์ข้างต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หมายความรวมถึง ผู้ประกอบธุรกิจแฟ็กเตอริงอื่น ซึ่งรับโอนหรือตกลงจะรับโอนทรัพย์สินจากผู้ประกอบธุรกิจแฟ็กเตอริงดังกล่าว และรับที่จะดำเนินการตามอย่างใดอย่างหนึ่งดังต่อไปนี้ด้ว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ัดให้มีบัญชีทรัพย์สินที่จะได้รับจากการชำระหนี้ 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รียกเก็บทรัพย์สินที่จะได้รับจากการชำระหนี้ หรื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ับผิดชอบในหนี้ที่ลูกหนี้ของผู้ขายสินค้าหรือผู้ให้บริการผิดนั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760" y="189000"/>
            <a:ext cx="82296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999720"/>
            <a:ext cx="8713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 ได้แก่ ผู้ประกอบกิจการที่ต้องเสียภาษีธุรกิจเฉพาะ ไม่ว่าผู้ประกอบกิจการดังกล่าวจะประกอบกิจการในรูปของ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ธรรมด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คณะบุคคลที่มิใช่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องมรดก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้างหุ้นส่วนสามัญ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องทุน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่วยงานหรือกิจการของเอกชนที่กระทำโดยบุคคลธรรมดาตั้งแต่สองคนขึ้นไปอันมิใช่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งค์การของรัฐบาล สหกรณ์ และองค์กรอื่นที่กฎหมายกำหนดให้เป็นนิติบุคค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ผู้ประกอบกิจการอยู่นอกราชอาณาจักร ให้ผู้มีหน้าที่รับผิดชอบในการประกอบกิจการรวมตลอดถึง ลูกจ้าง ตัวแทน หรือผู้ทำการแทนซึ่งมีอำนาจในการจัดการแทนที่อยู่ในราชอาณาจักร เป็นผู้มีหน้าที่เสียภาษีร่วมกับผู้ประกอบกิจการดังกล่าวข้างต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8713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ำนวณ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 จะต้องเสียภาษีโดยคำนวณภาษี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8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มีหน้าที่เสียภาษีธุรกิจเฉพาะเสียภาษีโดยคำนวณจากฐานภาษี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เดือนภาษีของผู้มีหน้าที่เสียภาษีธุรกิจเฉพาะ ตามอัตราภาษีที่กำหนดไว้ตามมาตรา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6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ต่ผู้มีหน้าที่เสียภาษีมีสิทธิอุทธรณ์การประเมินภาษีตามบทบัญญัติว่าด้วยการอุทธรณ์ในส่วน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มวด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ักษณะ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คำนวณ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สำหรับการประกอบกิจการที่ต้องเสียภาษีธุรกิจเฉพาะ ได้แก่ รายรับก่อนหักรายจ่ายใด ๆ ที่ผู้ประกอบกิจการได้รับ หรือพึงได้รับเนื่องจากการประกอบกิจกา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ธนาคาร กิจการธุรกิจเงินทุน ธุรกิจหลักทรัพย์ และธุรกิจเครดิตฟองซิเอร์ และธุรกิจเยี่ยงธนาคารพาณิชย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 ส่วนลด ค่าธรรมเนียม ค่าบริการ หรือกำไรก่อนหักรายจ่ายใดๆ จากการซื้อหรือขายหรือที่ได้จากตั๋วเงิน หรือตราสารแสดงสิทธิในหนี้ใดๆ แล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ไรก่อนหักรายจ่ายใดๆ จากการแลกเปลี่ยนหรือซื้อขายเงินตรา การออกตั๋วเงิน หรือตราสารแสดงสิทธิในหนี้ใดๆ หรือการส่งเงินไปต่างประเท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รับประกันชีวิต ได้แก่ ดอกเบี้ย ค่าธรรมเนียม หรือค่าบริกา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ฐา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800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โรงรับจำนำ ได้แก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อกเบี้ย ค่าธรรมเนียม แล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 ทรัพย์สิน ค่าตอบแทน หรือประโยชน์ใดๆ อันมีมูลค่าที่ได้รับหรือพึงได้รับจากการขายของที่จำนำหลุดเป็นสิทธ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ขายอสังหาริมทรัพย์เป็นทางค้าหรือหากำไร ได้แก่ รายรับก่อนหักรายจ่ายใดๆ ทั้งสิ้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ซื้อและขายคืนหลักทรัพย์ ได้แก่ กำไรก่อนหักรายจ่ายใดๆ จากการขายคืนหลักทรัพย์ แต่ไม่รวมถึง ดอกเบี้ย เงินปันผล หรือผลประโยชน์ใด ๆ ที่ได้จากหลักทรัพย์ ทั้งนี้ ตามหลักเกณฑ์ วิธีการ และ เงื่อนไขตามประกาศอธิบดีกรมสรรพากรเกี่ยวกับภาษีธุรกิจเฉพาะ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ประกอบธุรกิจแฟ็กเตอริงได้แก่ ดอกเบี้ย ส่วนลด ค่าธรรมเนียม หรือค่าบริกา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ฐา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เกณฑ์การคำนวณรายรับเพื่อเสีย 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SB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91/8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รรคส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ให้เลือกใช้เกณฑ์เงินสด หรือเกณฑ์สิทธิ เว้นแต่ </a:t>
            </a:r>
            <a:r>
              <a:rPr b="0" lang="hi-IN" sz="2800" spc="-1" strike="noStrike" u="sng">
                <a:solidFill>
                  <a:srgbClr val="ffffff"/>
                </a:solidFill>
                <a:uFillTx/>
                <a:latin typeface="Arial"/>
                <a:cs typeface="Microsoft Sans Serif"/>
              </a:rPr>
              <a:t>การขายอสังหาริมทรัพย์เป็นทางค้าหรือหากำไ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ดู 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50(5)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แล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(6)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69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ตรี มาตร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icrosoft Sans Serif"/>
              </a:rPr>
              <a:t>91/10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Microsoft Sans Serif"/>
              </a:rPr>
              <a:t>วรรคสี่ วรรคห้า วรรคห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ธุรกิจเฉพาะม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 แยกใช้กับกิจการ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0.1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ขายหลักทรัพย์ในตลาดหลักทรัพย์ ซึ่งปัจจุบันนี้ได้รับยกเว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5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ประกันชีวิตและกิจการโรงรับจำน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0 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ธนาคาร กิจการธุรกิจเงินทุน ธุรกิจหลักทรัพย์ ธุรกิจเครดิตฟองซิเอร์ กิจการเยี่ยงธนาคารพาณิชย์และกิจการขายอสังหาริม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สียภาษีธุรกิจเฉพาะตามอัตราดังกล่าว จะต้องเสียภาษีท้องถิ่นอีกร้อยละ </a:t>
            </a:r>
            <a:r>
              <a:rPr b="0" i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i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ภาษีธุรกิจเฉพาะด้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อัตรา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ฐานภาษีและอัตรา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79280" y="1052640"/>
          <a:ext cx="8902800" cy="5343480"/>
        </p:xfrm>
        <a:graphic>
          <a:graphicData uri="http://schemas.openxmlformats.org/drawingml/2006/table">
            <a:tbl>
              <a:tblPr/>
              <a:tblGrid>
                <a:gridCol w="2967120"/>
                <a:gridCol w="4665600"/>
                <a:gridCol w="1270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กิจ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ธนาค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ธุรกิจเงินทุน ธุรกิจหลักทรัพย์ และธุรกิจเครดิตฟองซิเอร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ุรกิจเยี่ยงธนาคารพาณิชย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ส่วนลด ค่าธรรมเนียม ค่า บริการ หรือกำไรก่อนหักรายจ่ายใดๆ จากการซื้อหรือขายหรือที่ได้จากตั๋วเงิน หรือตราสารแสดงสิทธิในหนี้ใด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ไรก่อนหักรายจ่ายใดๆ จากการแลกเปลี่ยนหรือซื้อขายเงินตรา การออกตั๋วเงิน หรือตราสารแสดงสิทธิในหนี้ใดๆ หรือการส่งเงินไปต่างประเท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รับประกันชีวิต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ส่วนลด ค่าธรรมเนียม หรือค่า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ธุรกิจแฟ็กเตอริ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ส่วนลด ค่าธรรมเนียม หรือค่าบริ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ตถุประสงค์การวางแผน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5881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ห้การเสียภาษีธุรกิจเฉพาะ เป็นไปโดยถูกต้อง และครบถ้วนตามที่กฎหมายกำหนดบัญญัติไว้ โดยไม่มีการหลีกเลี่ย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ขจัดปัญหาเกี่ยวกับภาษีธุรกิจเฉพาะที่อาจเกิดขึ้นในทุกกรณ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ประหยัดหรือลดค่าใช้จ่ายที่อาจเกิดขึ้นเนื่องจากการเสียภาษีเงินได้บุคคลธรรมดาไม่ถูกต้อง อาทิ เบี้ยปรับ เงินเพิ่มภาษี ค่าปรับทางอาญ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79280" y="1081080"/>
          <a:ext cx="8902800" cy="5300640"/>
        </p:xfrm>
        <a:graphic>
          <a:graphicData uri="http://schemas.openxmlformats.org/drawingml/2006/table">
            <a:tbl>
              <a:tblPr/>
              <a:tblGrid>
                <a:gridCol w="2967120"/>
                <a:gridCol w="4665600"/>
                <a:gridCol w="1270080"/>
              </a:tblGrid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ประเภทกิจการ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รายรับ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อัตร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โรงรับจำนำ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ค่าธรรมเนียม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เงิน ทรัพย์สิน ค่าตอบแทน หรือประโยชน์ใดๆ อันมีมูลค่าที่ได้รับหรือพึงได้รับจากการขายของที่จำนำหลุดเป็นสิทธิ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ขายอสังหาริมทรัพย์เป็นทางค้าหรือหากำไ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ดอกเบี้ย ส่วนลด ค่าธรรมเนียม หรือค่าบริการ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 </a:t>
                      </a: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ิจการซื้อและขายคืนหลักทรัพย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ffffff"/>
                          </a:solidFill>
                          <a:latin typeface="Microsoft Sans Serif"/>
                          <a:cs typeface="Microsoft Sans Serif"/>
                        </a:rPr>
                        <a:t>กำไรก่อนหักรายจ่ายใดๆ จากการขายคืนหลักทรัพย์ แต่ไม่รวมถึง ดอกเบี้ย เงินปันผล หรือผลประโยชน์ใด ๆ ที่ได้จากหลักทรัพย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Microsoft Sans Serif"/>
                          <a:ea typeface="Microsoft Sans Serif"/>
                        </a:rPr>
                        <a:t>3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ฐานภาษีและอัตรา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9280" y="1299960"/>
            <a:ext cx="878544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มีหน้าที่คำนวณเงินภาษีอากรที่ต้องชำระ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อากรที่ต้องชำระทั้งสิ้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+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้องถิ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ธุรกิจเฉพาะ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ฐานภาษี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x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ัตรา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ท้องถิ่น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=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ภาษีธุรกิจเฉพา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ารคำนวณ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56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ประมวลรัษฎ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ที่ได้รับยกเว้นภาษีธุรกิจเฉพาะ ตามที่กำหนดไว้ใน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3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ห่งประมวลรัษฎากร คื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ธนาคารแห่งประเทศไทย ธนาคารออมสิน ธนาคารอาคารสงเคราะห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เงินทุนอุตสาหกรรมแห่งประเทศไท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สหกรณ์ออมทรัพย์เฉพาะการให้กู้ยืมแก่สมาชิกหรือแก่สหกรณ์ออมทรัพย์อื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กองทุนสำรองเลี้ยงชีพตามกฎหมายว่าด้วยกองทุนสำรองเลี้ยงชี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การเคหะแห่งชาติ เฉพาะการขายหรือให้เช่าซื้ออสังหาริม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รับจำนำของกระทรวง ทบวง กรม และราชการส่วนท้องถิ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920" y="1153800"/>
            <a:ext cx="84247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 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0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หลักทรัพย์ตามกฎหมายว่าด้วยตลาดหลักทรัพย์แห่งประเทศไทยในตลาดหลัก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เงินทุนอุตสาหกรรมขนาดย่อ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ประกันสินเชื่ออุตสาหกรรมขนาดย่อม แก้ไขเพิ่มเติมโดยพระราชกฤษฎีกา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2779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ธนาคารเพื่อการส่งออกและนำเข้าแห่งประเทศไทย แก้ไขเพิ่มเติมโดยพระราชกฤษฎีกา 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560" y="1153800"/>
            <a:ext cx="871380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0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ศษของบาทจากการคำนวณภาษีธุรกิจเฉพาะแก่ผู้มีหน้าที่เสียภาษี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ารโอนกรรมสิทธิ์หรือสิทธิครอบครองในที่ดินโดยไม่มีค่าตอบแทนให้แก่วัด วัดบาดหลวงโรมันคาธอลิค หรือมัสยิด ที่จัดตั้งขึ้นตามกฎหมายว่าด้วยการนั้น ทั้งนี้ เฉพาะการโอนที่ดินส่วนที่ทำให้วัด วัดบาทหลวงโรมันคาธอลิค หรือมัสยิด มีที่ดินไม่เกินห้าสิบไร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ณรส แก้ไขเพิ่มเติมโดย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2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02000" indent="-2692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19680" indent="-343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ตรส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ฤษภ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ึง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มษาย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5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ของผู้ประกอบกิจการให้แก่องค์การบริหารสินเชื่ออสังหาริมทรัพย์หรือบริษัทจำกัดที่สถาบันการเงินตามพระราชกฤษฎีกาจัดตั้งองค์การบริหารสินเชื่ออสังหาริมทรัพย์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จัดตั้งขึ้นเพื่อดำเนินการบริการสินเชื่ออสังหาริมทรัพย์โดยความเห็นชอบของธนาคารแห่ง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ขององค์การบริหารสินเชื่ออสังหาริมทรัพย์หรือของบริษัทจำกัดที่สถาบันการเงินตามพระราชกฤษฎีกาจัดตั้งองค์การบริหารสินเชื่ออสังหาริมทรัพย์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จัดตั้งขึ้นเพื่อดำเนินการบริหารสินเชื่ออสังหาริมทรัพย์โดยความเห็นชอบของธนาคารแห่งประเทศ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1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กเลิกโดยพระราชกฤษฎีกาฯ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5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8934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-2653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รายรับจากการขายอสังหาริมทรัพย์ที่ผู้ขายมีไว้ในการประกอบกิจการ เฉพาะการโอนอสังหาริมทรัพย์อันเนื่องมาจากการที่ผู้ประกอบกิจการซึ่งเป็นบริษัทมหาชนจำกัด หรือบริษัทจำกัดควบเข้ากันหรือโอนกิจการทั้งหมดให้แก่กัน ตามหลักเกณฑ์ วิธีการ และเงื่อนไขที่อธิบดีกรมสรรพากรประกาศกำหนด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สฬส แก้ไขเพิ่มเติม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7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ุล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12800" indent="-264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ควบเข้ากันหรือการโอนกิจการทั้งหมดให้แก่กันของบริษัทมหาชน จำกัดหรือบริษัทจำกัด จะต้องมีลักษณะและหรือเงื่อนไขดังต่อไปนี้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กาศอธิบดีกรมสรรพากร ลงวัน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7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ยายน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2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้องเป็นการควบเข้ากันหรือโอนกิจการทั้งหมดให้แก่กันของบริษัท มหาชน จำกัด และบริษัทจำกัด ที่ตั้งขึ้นตามกฎหมายไท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1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 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บริษัทมหาชน จำกัด หรือบริษัทจำกัด อันได้ตั้งขึ้นใหม่ด้วย ควบเข้ากันนั้น และบริษัทมหาชน จำกัด หรือบริษั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16400" indent="-275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กัดผู้รับโอน แจ้งรายชื่อผู้ถือหุ้น จำนวนหุ้นและมูลค่าหุ้น ตามทะเบียนหุ้นทั้งของต่างบริษัทที่ควบเข้ากัน บริษัทที่ตั้งใหม่ บริษัทผู้โอน และบริษัทผู้รับโอน ต่ออธิบดีกรมสรรพากร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 นับแต่วันที่ได้จดทะเบียนเป็นบริษัทใหม่ กรณีควบ หรือนับแต่วันจดทะเบียนเปลี่ยนแปลงกรณีโอน ตามแบบที่อธิบดีกำหนด ณ สำนักงานสรรพากรพื้นที่ ซึ่งเป็นที่ตั้งของบริษัทมหาชน จำกัด หรือบริษัทจำกัด อันได้ตั้งขึ้นใหม่ด้วย ควบเข้ากัน และบริษัทมหาชน จำกัด หรือบริษัทจำกัด ผู้รับโอน แล้วแต่กรณ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 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ที่ควบเข้ากัน และบริษัทผู้โอนหรือผู้รับโอนจะต้องไม่เป็นลูกหนี้ภาษีอากรค้างของกรมสรรพากร ณ วันที่ควบหรือวันที่โอน เว้นแต่ได้จัดให้มีธนาคารหรือหลักทรัพย์ค้ำประกันหนี้ภาษีอากรค้างและค่าใช้จ่ายในการบังคับหนี้ดังกล่าวแล้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    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การโอนกิจการให้แก่กัน บริษัทผู้โอนกิจการต้องจดทะเบียนเลิกและมีการชำระบัญชีในรอบระยะเวลาบัญชีที่โอนกิจการ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   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กรณีที่มีปัญหาในการปฏิบัติ ให้อธิบดีกรมสรรพากรมีอำนาจวินิจฉัย และคำวินิจฉัยของอธิบดีกรมสรรพากร ให้ถือเป็นหลักเกณฑ์ วิธีการ และเงื่อนไขที่กำหนดตามประกาศนี้ด้วย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โดยกำหนดแบบสำหรับการแจ้งรายการกรณีการควบเข้ากันหรือโอนกิจการทั้งหมดให้แก่กันของบริษัทมหาชนจำกัดหรือบริษัทจำกัด เพื่อยกเว้นรัษฎากร ดังต่อไป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3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จ้งรายชื่อผู้ถือหุ้นและแจ้งการเป็นลูกหนี้ค่าภาษีอากรสำหรับการควบเข้ากันหรือโอนกิจการทั้งหมดให้แก่กันของบริษัทมหาชนจำกัดหรือบริษัท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89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16400" indent="-2750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จ้งรายชื่อบริษัทที่ควบเข้ากันหรือโอนกิจการทั้งหมดให้แก่กันของบริษัทมหาชนจำกัดหรือบริษัท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จ้งรายชื่อผู้ถือหุ้นสำหรับการควบเข้ากันหรือโอนกิจการทั้งหมดให้แก่กันของบริษัทมหาชนจำกัดหรือบริษัท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 ค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จ้งการเป็นลูกหนี้ค่าภาษีอากรสำหรับการควบเข้ากันหรือโอนกิจการทั้งหมดให้แก่กันของบริษัทมหาชนจำกัดหรือบริษัทจำกัด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56680" indent="-2624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อกวีสติ ให้ยกเว้นภาษีธุรกิจเฉพาะ สำหรับรายรับจากการขายอสังหาริมทรัพย์ที่ผู้ขายมีไว้ในการประกอบกิจการ เฉพาะการขายอสังหาริมทรัพย์ที่เป็นโรงงานพร้อมที่ดินของบริษัทหรือห้างหุ้นส่วนนิติบุคคลเพื่อย้ายสถานประกอบการเข้าไปอยู่ในนิคมอุตสาหกรรมเป็นจำนวนไม่เกินมูลค่าของอสังหาริมทรัพย์ที่เป็นโรงงานพร้อมที่ดินแห่งใหม่และย้ายโรงงานเข้าไปในนิค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วัตถุประสงค์การวางแผน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00280"/>
            <a:ext cx="87361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ใช้สิทธิประโยชน์เกี่ยวกับ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ลดขั้นตอนในการปฏิบัติงานที่ไม่จำเป็น และไม่ได้มาตรฐา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6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ตรียมพร้อมต่อการเรียกตรวจสอบภาษีอากรของเจ้าพนักงานประเมินสรรพ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7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พื่อเสริมสร้างระบบการควบคุมภายในให้มีประสิทธิภาพ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89344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ุตสาหกรรมเพื่อใช้เป็นสถานประกอบการแห่งใหม่ภายในกำหนดเวลาหนึ่งปีก่อนหรือหลังวันที่ทำสัญญาขายอสังหาริมทรัพย์ที่เป็นโรงงานพร้อมที่ดินแห่งเดิม โดยต้องดำเนินการให้แล้วเสร็จภายใ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ันยายน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53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ูลค่าของอสังหาริมทรัพย์ที่เป็นโรงงานพร้อมที่ดินแห่งใหม่ ให้ถือตามราคาประเมินทุนทรัพย์เพื่อเรียกเก็บค่าธรรมเนียมจดทะเบียนสิทธิและนิติกรรมตามประมวลกฎหมายที่ดิ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ตามหลักเกณฑ์ วิธีการ และเงื่อนไขตามประกาศอธิบดีกรมสรรพากร เกี่ยวกับภาษีธุรกิจเฉพาะ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68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153800"/>
            <a:ext cx="889344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0)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3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วันที่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หลักทรัพย์ตามกฎหมายว่าด้วยตลาดหลักทรัพย์แห่งประเทศไทยในตลาดหลักทรัพย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เงินทุนอุตสาหกรรมขนาดย่อ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บรรษัทประกันสินเชื่ออุตสาหกรรมขนาดย่อ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โดยพระราชกฤษฎีกาฯ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7)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องธนาคารเพื่อการส่งออกและนำเข้าแห่งประเทศไทย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้ไขเพิ่มเติมโดยพระราชกฤษฎีกาฯ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65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79280" y="1153800"/>
            <a:ext cx="889344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ฯ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40) -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่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อสังหาริมทรัพย์เฉพาะที่อยู่ในบังคับต้องเสียภาษีธุรกิจเฉพาะ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(6)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เป็นทางค้าหรือหากำไร ไม่ว่าอสังหาริมทรัพย์นั้นจะได้มาโดยวิธีใดก็ตาม ทั้งนี้ เฉพาะที่เป็นไปตามหลักเกณฑ์ วิธีการ และเงื่อนไขตามที่กำหนดโดยพระราชกฤษฎีก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ไถ่อสังหาริมทรัพย์จากการขายฝากหรือ จากการขายฝากโดยการวางทรัพย์ต่อสำนักงานวางทรัพย์ภายในเวลาที่กำหน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ภายหลังที่ได้ไถ่จากการขายฝาก ซึ่งเมื่อรวมระยะเวลาการได้มาซึ่งอสังหาริมทรัพย์ก่อนการขายฝาก และระยะเวลาหลังจากการขายฝากแล้วเกินห้าปี กำหนด แก้ไขเพิ่มเติม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920" y="1154160"/>
            <a:ext cx="842472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79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กเว้นตามพระราชกฤษฎีกา ฉบับ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27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8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บังคับตั้งแต่วันที่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กราคม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35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กิจการดังต่อไป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5424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รายรับ และการกระทำตราสารอันเนื่องมาจากการโอนกรรม สิทธิ์ในที่ดินให้แก่สถาบันอุดมศึกษาเอกชนตามพระราชบัญญัติสถาบันอุดมศึกษาเอกชน 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 สำหรับการโอนกรรมสิทธิ์ในที่ดินตั้งแต่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1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ตุลาคม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546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ต้นไป ให้แก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87720" indent="-3812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รับใบอนุญาตจัดตั้งสถาบันอุดมศึกษาเอกช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187720" indent="-3812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บริจาคอสังหาริมทรัพย์ให้แก่สถาบันอุดมศึกษาเอกช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1226880"/>
            <a:ext cx="8569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จการขายอสังหาริมทรัพย์เฉพาะที่อยู่ในบังคับต้องเสียภาษีธุรกิจเฉพาะตามมาตร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2(6) </a:t>
            </a:r>
            <a:r>
              <a:rPr b="1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เป็นทางค้าหรือหากำไร ไม่ว่าอสังหาริมทรัพย์นั้นจะได้มาโดยวิธีใดก็ตาม ทั้งนี้ เฉพาะที่เป็นไปตามหลักเกณฑ์ วิธีการ และเงื่อนไขตามที่กำหนดโดยพระราชกฤษฎีกา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42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54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รับไถ่อสังหาริมทรัพย์จากการขายฝากหรือ จากการขายฝากโดยการวางทรัพย์ต่อสำนักงานวางทรัพย์ภายในเวลาที่กำหน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3960" indent="-2793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ขายอสังหาริมทรัพย์ภายหลังที่ได้ไถ่จากการขายฝาก ซึ่งเมื่อรวมระยะเวลาการได้มาซึ่งอสังหาริมทรัพย์ก่อนการขายฝาก และระยะเวลาหลังจากการขายฝากแล้วเกินห้าปี กำหนด แก้ไขเพิ่มเติมโดยพระราชกฤษฎีกา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ที่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6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ยกเว้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81040" y="569880"/>
            <a:ext cx="161460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A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ก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95640" y="836640"/>
            <a:ext cx="792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87640" y="395280"/>
            <a:ext cx="2284560" cy="86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รับดอกเบี้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งินกู้ยื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836640"/>
            <a:ext cx="11509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05480" y="549360"/>
            <a:ext cx="156744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ใด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133524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1751040"/>
            <a:ext cx="3097080" cy="91440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Welf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83080" y="220500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4880" y="170028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94760" y="1916280"/>
            <a:ext cx="160092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S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263052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046320"/>
            <a:ext cx="3097080" cy="91440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e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83080" y="350532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4880" y="299556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94760" y="3095640"/>
            <a:ext cx="1600920" cy="86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S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51800" y="2638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393372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4349880"/>
            <a:ext cx="3097080" cy="91440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iliated 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83080" y="480060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54880" y="429912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94760" y="4398840"/>
            <a:ext cx="1600920" cy="86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on SB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1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51800" y="39416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522936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5645160"/>
            <a:ext cx="3097080" cy="914400"/>
          </a:xfrm>
          <a:prstGeom prst="diamond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3080" y="6095880"/>
            <a:ext cx="1079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4880" y="559440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27880" y="5694480"/>
            <a:ext cx="1692360" cy="861840"/>
          </a:xfrm>
          <a:prstGeom prst="rect">
            <a:avLst/>
          </a:prstGeom>
          <a:solidFill>
            <a:srgbClr val="66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3.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WT 1%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51800" y="52372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8240" y="1371600"/>
            <a:ext cx="1681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26/25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560" y="4332240"/>
            <a:ext cx="2098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25% 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t least 6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lo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145640" y="163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5661000"/>
            <a:ext cx="2305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har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0578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ยื่นแบบแสดงรายการภาษีธุรกิจเฉพาะ ได้แก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ุคคลซึ่งประกอบกิจการที่ต้องเสียภาษีธุรกิจเฉพาะ โดยกิจการนั้นไม่ได้รับยกเว้น 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รับผิดชอบในการประกอบกิจการในราชอาณาจักรของผู้ประกอบกิจการอยู่นอกราชอาณาจั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ลูกจ้าง ตัวแทน หรือผู้ทำการแทนซึ่งมีอำนาจในการจัดการแทนโดยตรงหรือโดยปริยายที่อยู่ในราช อาณาจักรของผู้ประกอบกิจการที่อยู่นอกราชอาณาจักร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วิธีการเสี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50920" y="1371240"/>
            <a:ext cx="8642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แสดงรายการที่ใช้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ได้แก่ แบบ 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เวลาในการยื่นแบบแสดงรายการ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ารจดทะเบียนภาษีธุรกิจเฉพาะ มีหน้าที่ต้องยื่นแบบแสดงรายการ และชำระภาษีโดยใช้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 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สดงประเภทของกิจการ จำนวนรายรับ จำนวนภาษีธุรกิจเฉพาะ และภาษีท้องถิ่นอีกร้อยล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ภาษีธุรกิจเฉพาะ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ยื่นแบบแสดงรายการเป็นรายเดือนภาษี ภายในวันที่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5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องเดือนถัดไป ไม่ว่าจะมีรายรับในเดือนนั้น หรือไม่ก็ตา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าษีในเดือนภาษีใด เมื่อรวมคำนวณแล้วมีจำนวนไม่ถึง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00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าท ผู้ประกอบกิจการไม่ต้องเสียภาษีสำหรับ เดือนภาษีนั้น แต่ยังคงมีหน้าที่ต้องยื่นแบบแสดงรายการตามปกติ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มาตรา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1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วิธีการเสี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วิธีการเสี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155600"/>
            <a:ext cx="83534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นที่ยื่นแบบแสดงรายการภาษ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จะต้องยื่นแบบ ภ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4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กับชำระภาษี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ณ สถานที่ดังต่อไปนี้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เขตกรุงเทพมหานคร ให้ยื่น ณ สำนักงานสรรพากรพื้นที่สาข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ขต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เภ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้องที่ที่สถานประกอบการตั้งอยู่ หรือสถานที่อื่นซึ่งอธิบดีกรมสรรพากรกำหนดให้เป็นสถานที่ยื่นแบบและชำระ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เขตจังหวัดอื่น ให้ยื่น ณ สำนักงานสรรพากรพื้นที่สาขา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อำเภ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ิ่งอำเภ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นท้องที่ที่สถานประกอบการตั้งอยู่ หรือสถานที่อื่นซึ่งอธิบดีกรมสรรพากรกำหนดให้เป็นสถานที่ยื่นแบบและชำระภาษ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 u="sng">
                <a:solidFill>
                  <a:srgbClr val="ffffff"/>
                </a:solidFill>
                <a:uFillTx/>
                <a:latin typeface="Microsoft Sans Serif"/>
                <a:cs typeface="Microsoft Sans Serif"/>
              </a:rPr>
              <a:t>หมายเหตุ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แบบแสดงรายการและชำระภาษี สามารถยื่นผ่านเว็บไซต์ของกรมสรรพากรได้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e4e917"/>
                </a:solidFill>
                <a:latin typeface="Microsoft Sans Serif"/>
                <a:cs typeface="Microsoft Sans Serif"/>
              </a:rPr>
              <a:t>การขอคื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สิทธิขอคืนภาษีธุรกิจเฉพาะ 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ที่มีหน้าที่เสียภาษี ซึ่งได้ชำระภาษีไว้เกิน ผิด หรือซ้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ไม่มีหน้าที่เสียภาษีแต่ได้ชำระภาษีไว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มีสิทธิขอคืนเงินภาษีใช้คำร้องขอคืนเงินภาษีอากร คือ แบบ ค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ยื่นคำร้องขอคืนเงินภาษีธุรกิจเฉพาะ ตามแบบ ค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10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ะต้องแนบเอกสารที่เกี่ยวข้องไปพร้อมกับคำร้อง ด้วยได้แก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ังสือรับรองการจดทะเบียนเป็นนิติบุคคล กรณีผู้ขอคืนเป็นนิติบุคค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บเสร็จรับเงิ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ลักฐานอื่นที่เกี่ยวข้องกับประเด็นที่ขอคื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มีหน้าที่เสียภาษีธุรกิจเฉพาะ มีสิทธิยื่นคำร้องขอคืนเงินภาษีภายใน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ีนับแต่วันพ้นกำหนดเวลายื่น แบบแสดงรายการภาษ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ช่องโหว่ของกฎหมาย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ให้กู้ยืมตามคำสั่งกรมสรรพากรที่ ป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23/2534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ก่บุคคลดัง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“</a:t>
            </a: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บริษัทหรือห้างหุ้นส่วนนิติบุคคลในเครือเดียวกัน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ถาบันการเงิ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นักงานกู้ยืมจากกองทุนสวัสดิการเงินกู้ยื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ข้าถือหุ้นกิจการที่มีอสังหาริมทรัพย์เพื่อเข้าบริหารอสังหาริม ทรัพย์นั้นโดยไม่ต้องเสียภาษีธุรกิจเฉพาะและค่าธรรมเนียมตามกฎหมายที่ดิ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เลือกใช้เกณฑ์การคำนวณรายรับตามเกณฑ์เงินสด เพื่อเสียภาษีธุรกิจเฉพาะ ตามมาตรา 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91/8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รรคส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hi-IN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ช้สิทธิยกเว้นภาษีธุรกิจเฉพาะตามกฎหมายต่างๆ อาทิ การปรับปรุงโครงสร้างหนี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ที่ต้องเสียภาษีธุรกิจเฉพาะ มีหน้าที่ต้องปฏิบัติดังนี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น้าที่ในการจดทะเบีย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ที่มีหน้าที่เสียภาษีธุรกิจเฉพาะ จะต้องยื่นคำขอจดทะเบียนภาษีธุรกิจเฉพาะ ตามแบบคำขอจดทะเบียนภาษีธุรกิจเฉพาะ ภายใ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0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นับแต่วันเริ่ม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ิธีการจดทะเบียนภาษีธุรกิจเฉพา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คำขอจดทะเบียนภาษีธุรกิจเฉพาะ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แบบคำขอที่ใช้ในการจดทะเบียนภาษีธุรกิจเฉพาะ ได้แก่ 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ทั้งนี้ให้ผู้ประกอบกิจการ ขอรับแบบคำขอจดทะเบียนได้ที่สำนักงานสรรพากรอำเภอ หรือสำนักงานภาษีสรรรพากรพื้นที่ทุกแห่ง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อื่นในทาง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07640" y="1155240"/>
            <a:ext cx="900108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ารกรอกแบบคำขอจดทะเบียนภาษีธุรกิจเฉพาะ การยื่นคำขอจดทะเบียนภาษีธุรกิจเฉพาะ ผู้ประกอบกิจการต้องกรอกแบบคำขอจดทะเบียนภาษีธุรกิจเฉพาะ คือ 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ำนวน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 โดยมีข้อความครบถ้วนถูกต้องตรงกันทั้ง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ฉบับ ในการกรอกรายการ ตาม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ประกอบกิจการต้องแสดงสถานภาพต่างๆ ของการประกอบกิจการ ดังนี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1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ผู้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ผู้ประกอบกิจการที่เป็นบุคคลธรรมดาให้กรอกชื่อ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-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นามสกุล ที่อยู่ วัน เดือน ปีเกิด เลขประจำตัวประชาชน และเลขประจำตัวผู้เสียภาษีอาก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สำหรับผู้ประกอบกิจการที่เป็นนิติบุคคล ให้กรอกชื่อของนิติบุคคลที่ใช้ใน การจัดตั้งห้างหุ้นส่วนบริษัท ตามที่ปรากฏในหนังสือรับรองของนายทะเบียนหุ้นส่วนบริษัท กระทรวงพาณิชย์ และชื่อภาษาอังกฤษ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ร้อมรายละเอียดเลขที่ทะเบียนนิติบุคคล วัน เดือน ปีที่จดทะเบียน สถานที่จดทะเบียน รอบระยะเวลาบัญชี และเลขประจำตัวผู้เสียภาษีอากรของนิติบุคคลนั้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อื่นในทาง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07640" y="1155240"/>
            <a:ext cx="9001080" cy="54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2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และสถานที่ตั้งสถานประกอบ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ชื่อและที่ตั้งสำนักงานใหญ่ให้กรอกชื่อของสถานประกอบการของ บุคคลธรรมดาหรือนิติบุคคล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ถ้ามี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ซึ่งได้แก่ชื่อทางการค้าและกรอกเลขที่ตั้งของสถานประกอบการหรือที่ตั้ง ของสถานประกอบการที่เป็นสำนักงานใหญ่ชื่อและที่ตั้งสาขา กรณีมีสถานประกอบการหลายแห่งให้ระบุจำนวน สถานประกอบการที่เป็นสาขา พร้อมทั้งกรอกรายละเอียด ชื่อ และที่ตั้งสาขาทั้งหมดลง ในด้านหลังของแบบ ภ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ธ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0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3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วันเริ่ม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กรอกวันที่ผู้ประกอบกิจการเริ่มประกอบกิจการจริง พร้อมทั้งกรอก รายละเอียดเกี่ยวกับเงินทุน รายรับ ลูกจ้าง และค่าเช่าสถานประกอบ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(4)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ระเภทของการประกอบกิจกา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               </a:t>
            </a:r>
            <a:r>
              <a:rPr b="0" lang="th-TH" sz="24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ผู้ประกอบกิจการเลือกใส่เครื่องหมายหน้าข้อความประเภทของการ ประกอบกิจการแล้วแต่กรณ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หน้าที่อื่นในทาง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Microsoft Sans Serif"/>
              </a:rPr>
              <a:t>แนวทางในการวางแผ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เป็นภาษีที่จัดเก็บจากรายได้ และเป็นภาษีทางเลือกของ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จึงต้องพิจารณาว่ารายได้ประเภทนั้นๆ อยู่ในข่ายต้องเสีย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รณีรายได้นั้นต้องเสีย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ให้พิจารณาฐานภาษี อัตราภาษี วิธีการเสียภาษี และหน้าที่อื่นที่เกี่ยวข้อ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32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พิจารณาช่องโหว่และสิทธิประโยชน์ทางภาษีที่เกี่ยวข้องกับ </a:t>
            </a:r>
            <a:r>
              <a:rPr b="0" lang="en-US" sz="32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SB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ารวางแผน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81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่อนการวางแผน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วางแผน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นำแผนภาษีธุรกิจเฉพาะไปปฏิบัต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ขั้นตอนการติดตามประเมินผลการปฏิบัติตามแผนภาษีธุรกิจเฉพา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 </a:t>
            </a: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ขั้นตอนก่อนการวางแผน</a:t>
            </a:r>
            <a:br>
              <a:rPr sz="4000"/>
            </a:br>
            <a:r>
              <a:rPr b="1" lang="hi-IN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ภาษีธุรกิจเฉพาะ</a:t>
            </a: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9932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กำหนดบุคลากรที่เกี่ยวข้องกับการวางแผน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2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รูปแบบการจัดองค์การ ขั้นตอนการดำเนินธุรกิจ ตลอดจนเอกสารทางธุรกิจ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3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ศึกษาหลักเกณฑ์ วิธีการ และเงื่อนไขเกี่ยวกับภาษีธุรกิจเฉพา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.4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ปัญหาภาษีธุรกิจเฉพาะของธุรกิจที่ต้องการจัดให้มีการวางแผ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icrosoft Sans Serif"/>
                <a:ea typeface="Microsoft Sans Serif"/>
              </a:rPr>
              <a:t>1.1 </a:t>
            </a:r>
            <a:r>
              <a:rPr b="1" lang="th-TH" sz="4000" spc="-1" strike="noStrike">
                <a:solidFill>
                  <a:srgbClr val="ffff00"/>
                </a:solidFill>
                <a:latin typeface="Microsoft Sans Serif"/>
                <a:cs typeface="Microsoft Sans Serif"/>
              </a:rPr>
              <a:t>กำหนดบุคลากรที่เกี่ยวข้องกับการวางแผนภาษีธุรกิจเฉพา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21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จัดการหรือผู้บริหารระดับสูง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2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บัญชีการเงินและภาษีอากร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การตลา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3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กฎหมาย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4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ฝ่ายอื่นที่เกี่ยวข้อ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  <a:ea typeface="Microsoft Sans Serif"/>
              </a:rPr>
              <a:t>5. </a:t>
            </a:r>
            <a:r>
              <a:rPr b="0" lang="th-TH" sz="2800" spc="-1" strike="noStrike">
                <a:solidFill>
                  <a:srgbClr val="ffffff"/>
                </a:solidFill>
                <a:latin typeface="Microsoft Sans Serif"/>
                <a:cs typeface="Microsoft Sans Serif"/>
              </a:rPr>
              <a:t>ผู้เชี่ยวชาญทางภาษีอาก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3:31:15Z</dcterms:created>
  <dc:creator>pool</dc:creator>
  <dc:description/>
  <dc:language>en-US</dc:language>
  <cp:lastModifiedBy>Persoanal</cp:lastModifiedBy>
  <dcterms:modified xsi:type="dcterms:W3CDTF">2008-02-27T02:09:37Z</dcterms:modified>
  <cp:revision>59</cp:revision>
  <dc:subject/>
  <dc:title>Slide 1</dc:title>
</cp:coreProperties>
</file>